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265-6E04-45E2-AC4C-BABABA66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58C-B5D8-43FB-8828-501C6BA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381-2148-430A-A4AF-2A44C4DD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F8F-0331-4453-B374-3A2D01A1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392D-75BE-48F1-BE10-33C7D8BE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D5C-5C7E-436B-B387-03716246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3C91-24ED-4BE2-AF9F-FC8AE6C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1543-E19E-4AC5-A731-1866D008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1BF7-4800-43AF-9DB3-71625A6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D11-CB68-468D-8222-D81228D0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68B-BB1E-42B1-9011-8582DF9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2F6-98AB-4F2B-9174-D6C91B78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EACA-6E58-4229-990A-6F799AB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ED9E-D45C-4B1C-A94F-F14699E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43D-C990-424C-AC0C-38F7C369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41B-B9F6-455E-A895-B45F1243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E06-0EE4-4541-826B-342D0193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BDB-6C5C-4B64-9FBD-06001AAD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FCA-B5BA-43A2-9921-4B17B6BD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68C-7030-4E7A-B247-3972B8DA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33B-2665-4CED-BE4F-E7E259E4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993-59B3-47FD-9D97-044E2F7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00A-8019-47F8-B220-87FE8DC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5F3-4E6D-425A-B12A-EE83D10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1A8D-5627-417C-99E6-70469BE050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5601-5587-4FD2-9219-0C8CE176E0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оение атома химических элементов. Периодический закон и систем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ИТИЧЕСКАЯ ДИАГРАММА РАСПОЛОЖЕНИЯ АО В ЭЛЕКТРОННОЙ ОБОЛ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энергетическая диаграмма атомных уровней и подуровней в многоэлектронном атоме"/>
          <p:cNvPicPr/>
          <p:nvPr/>
        </p:nvPicPr>
        <p:blipFill>
          <a:blip r:embed="rId1"/>
          <a:stretch/>
        </p:blipFill>
        <p:spPr>
          <a:xfrm>
            <a:off x="1979640" y="1125360"/>
            <a:ext cx="52815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ХЕМА СТРОЕНИЯ АТО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уровня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подуровн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О - ГРАФИЧЕСКАЯ ФОРМУЛА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931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улировка периодического закона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.И. Менделеева 1869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360" y="2420640"/>
            <a:ext cx="86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относительных атомных масс элемен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0561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временная формулировка периодического закона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зарядов их атомных я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кономерности изменения некоторых свойств химических элементов в П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752480"/>
          <a:ext cx="9144000" cy="55612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пери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одной группы (для элементов главных подгруп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 на внешнем энергетическом уров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диус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57520" y="1999800"/>
            <a:ext cx="33289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это частица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572080" y="3214440"/>
            <a:ext cx="22003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0,9109534*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=1,602189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1"/>
          <a:srcRect l="1512" t="32070" r="31983" b="31205"/>
          <a:stretch/>
        </p:blipFill>
        <p:spPr>
          <a:xfrm>
            <a:off x="214200" y="0"/>
            <a:ext cx="4714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28600" y="3622680"/>
          <a:ext cx="8686800" cy="3235320"/>
        </p:xfrm>
        <a:graphic>
          <a:graphicData uri="http://schemas.openxmlformats.org/drawingml/2006/table">
            <a:tbl>
              <a:tblPr/>
              <a:tblGrid>
                <a:gridCol w="4343400"/>
                <a:gridCol w="2279520"/>
                <a:gridCol w="206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нукл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1,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7,n=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ая степень окис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но-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2" descr="Картинка 18 из 116079"/>
          <p:cNvPicPr/>
          <p:nvPr/>
        </p:nvPicPr>
        <p:blipFill>
          <a:blip r:embed="rId1"/>
          <a:stretch/>
        </p:blipFill>
        <p:spPr>
          <a:xfrm>
            <a:off x="0" y="0"/>
            <a:ext cx="2666880" cy="25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ложение элемента в ПС и строение его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6" descr="Картинка 9 из 2591"/>
          <p:cNvPicPr/>
          <p:nvPr/>
        </p:nvPicPr>
        <p:blipFill>
          <a:blip r:embed="rId4"/>
          <a:srcRect l="0" t="0" r="55" b="0"/>
          <a:stretch/>
        </p:blipFill>
        <p:spPr>
          <a:xfrm>
            <a:off x="5410080" y="0"/>
            <a:ext cx="3733920" cy="257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7aff"/>
                </a:solidFill>
                <a:latin typeface="Arial"/>
              </a:rPr>
              <a:t>ПЛАН ХАРАКТЕРИСТИКИ ХИМ. ЭЛЕМЕН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3581280"/>
          <a:ext cx="9144000" cy="32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металл; металлическая кристаллическая решётка; в соединениях тип связи - металличе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неметалл; газ жёлтого цве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4" descr="Картинка 1 из 117072"/>
          <p:cNvPicPr/>
          <p:nvPr/>
        </p:nvPicPr>
        <p:blipFill>
          <a:blip r:embed="rId1"/>
          <a:stretch/>
        </p:blipFill>
        <p:spPr>
          <a:xfrm>
            <a:off x="0" y="0"/>
            <a:ext cx="4952880" cy="358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Картинка 17 из 60692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3543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Характер простого вещества (металл, неметалл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school.xvatit.com/images/0/07/Him7_5_5.jpg"/>
          <p:cNvPicPr/>
          <p:nvPr/>
        </p:nvPicPr>
        <p:blipFill>
          <a:blip r:embed="rId1"/>
          <a:srcRect l="58318" t="8084" r="33115" b="0"/>
          <a:stretch/>
        </p:blipFill>
        <p:spPr>
          <a:xfrm>
            <a:off x="7620120" y="0"/>
            <a:ext cx="1523880" cy="51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4876920"/>
          <a:ext cx="9144000" cy="1828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лития, но слабее, по сравнению с кали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о фтором неметаллические свойства выражены слабее, но по сравнению с бромом эти свойства выражены сильне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3" name="Picture 4" descr="http://school.xvatit.com/images/0/07/Him7_5_5.jpg"/>
          <p:cNvPicPr/>
          <p:nvPr/>
        </p:nvPicPr>
        <p:blipFill>
          <a:blip r:embed="rId2"/>
          <a:srcRect l="2160" t="0" r="84954" b="13925"/>
          <a:stretch/>
        </p:blipFill>
        <p:spPr>
          <a:xfrm>
            <a:off x="0" y="0"/>
            <a:ext cx="1676520" cy="487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267840"/>
            <a:ext cx="6553080" cy="46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. Сравнение свойств простого вещества со свойствами простых веществ, образованных соседними по подгруппе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23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4. Сравнение свойств простого вещества со свойствами простых веществ, образованных соседними по периоду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4648320"/>
          <a:ext cx="9144000" cy="2209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маг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 серой металлические свойства выражены слабе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7" name="Picture 2" descr="Картинка 16 из 643"/>
          <p:cNvPicPr/>
          <p:nvPr/>
        </p:nvPicPr>
        <p:blipFill>
          <a:blip r:embed="rId1"/>
          <a:srcRect l="0" t="30315" r="0" b="40198"/>
          <a:stretch/>
        </p:blipFill>
        <p:spPr>
          <a:xfrm>
            <a:off x="0" y="3048120"/>
            <a:ext cx="9198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5. Формула высшего оксида и его кислотно-основные свойст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82800"/>
          <a:ext cx="9144000" cy="2108160"/>
        </p:xfrm>
        <a:graphic>
          <a:graphicData uri="http://schemas.openxmlformats.org/drawingml/2006/table">
            <a:tbl>
              <a:tblPr/>
              <a:tblGrid>
                <a:gridCol w="4408560"/>
                <a:gridCol w="473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8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2O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проявляет основные свойства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му соответствует основание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2HCl = 2NaCl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=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ий оксид хлор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2O7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является кислотным оксидом. Ему соответствует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H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2NaOH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Картинка 2 из 258"/>
          <p:cNvPicPr/>
          <p:nvPr/>
        </p:nvPicPr>
        <p:blipFill>
          <a:blip r:embed="rId1"/>
          <a:stretch/>
        </p:blipFill>
        <p:spPr>
          <a:xfrm>
            <a:off x="4572000" y="40384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Картинка 1 из 736"/>
          <p:cNvPicPr/>
          <p:nvPr/>
        </p:nvPicPr>
        <p:blipFill>
          <a:blip r:embed="rId2"/>
          <a:srcRect l="0" t="0" r="57" b="0"/>
          <a:stretch/>
        </p:blipFill>
        <p:spPr>
          <a:xfrm>
            <a:off x="0" y="4071960"/>
            <a:ext cx="297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6. Формула высшего гидроксида, его кислотно-основные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882800"/>
          <a:ext cx="8229600" cy="238284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Гидр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 является сильным основанием и проявляет свойства , характерные для осн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 + HCl = NaCl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O2 = Na2CO3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uCl2 = Cu(OH)2 + 2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ная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являет свойства сильной кисл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2 + KOH = KClO4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6" descr="Файл:Sodium-hydroxide-crystal-3D-vdW.png"/>
          <p:cNvPicPr/>
          <p:nvPr/>
        </p:nvPicPr>
        <p:blipFill>
          <a:blip r:embed="rId1"/>
          <a:stretch/>
        </p:blipFill>
        <p:spPr>
          <a:xfrm>
            <a:off x="0" y="4237200"/>
            <a:ext cx="3486240" cy="262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Картинка 6 из 5918"/>
          <p:cNvPicPr/>
          <p:nvPr/>
        </p:nvPicPr>
        <p:blipFill>
          <a:blip r:embed="rId2"/>
          <a:stretch/>
        </p:blipFill>
        <p:spPr>
          <a:xfrm>
            <a:off x="3352680" y="4241880"/>
            <a:ext cx="3276720" cy="261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dic.academic.ru/pictures/wiki/files/112/perchloric-acid-3d-vdw.png"/>
          <p:cNvPicPr/>
          <p:nvPr/>
        </p:nvPicPr>
        <p:blipFill>
          <a:blip r:embed="rId3"/>
          <a:stretch/>
        </p:blipFill>
        <p:spPr>
          <a:xfrm>
            <a:off x="6343560" y="4267080"/>
            <a:ext cx="2800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ула летучего водородного соеди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52480"/>
          <a:ext cx="9144000" cy="213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образует летучего водородного соедин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 – </a:t>
                      </a: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оводород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2" descr="Картинка 2 из 615"/>
          <p:cNvPicPr/>
          <p:nvPr/>
        </p:nvPicPr>
        <p:blipFill>
          <a:blip r:embed="rId1"/>
          <a:srcRect l="0" t="0" r="0" b="18"/>
          <a:stretch/>
        </p:blipFill>
        <p:spPr>
          <a:xfrm>
            <a:off x="4572000" y="3052800"/>
            <a:ext cx="4572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вол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 обладает большой СКОРОСТЬЮ и ЭНЕРГИ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долю секунды электрон способен «обежать» целую область пространства, называе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042920" y="-100080"/>
            <a:ext cx="7129440" cy="73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стоположение электроно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ространстве 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нный момен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ремени определит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имер с фотографи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электронных обл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6" descr="image2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900000" y="5716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электроны атома образуют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1409760" y="1285920"/>
            <a:ext cx="63054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286000" y="2714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АЯ ОБОЛ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ТС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Прямоугольник 4" descr=""/>
          <p:cNvPicPr/>
          <p:nvPr/>
        </p:nvPicPr>
        <p:blipFill>
          <a:blip r:embed="rId1"/>
          <a:stretch/>
        </p:blipFill>
        <p:spPr>
          <a:xfrm>
            <a:off x="1835280" y="3144960"/>
            <a:ext cx="4492440" cy="11030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3071880" y="4214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 flipV="1" rot="10800000">
            <a:off x="2239920" y="46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н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Admin</cp:lastModifiedBy>
  <dcterms:modified xsi:type="dcterms:W3CDTF">2012-12-20T11:22:15Z</dcterms:modified>
  <cp:revision>10</cp:revision>
  <dc:subject/>
  <dc:title>ЧТО ТАКОЕ</dc:title>
</cp:coreProperties>
</file>